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671-81E8-461D-A9C6-C9E42D9E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D0A-DDB0-41E2-85FE-733C4732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332DA-6A6D-440B-AAC9-0A117652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C2D2-FA1C-4F74-B474-7C7C724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64137-F4F8-4A27-8BEA-A9DC397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C6D7-B6E4-428B-BC17-DF4FC81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C2899-7998-400F-B9DB-22B1517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DB32F-3C74-4812-A85E-7663B73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C8CFE-6267-4CFE-BAE0-5778453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F0DA6-BE64-41D5-A581-1352623A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20CDC-218B-45A1-897F-B71D9127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84404-CE9D-4AAD-92D1-1FD60D25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FAA-ADF1-4AB5-A279-333FA626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44CD2-8F22-4A2F-9821-2076E41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91B9-F791-4DD0-843E-D8D84C2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9A3D3-01AA-4C5B-8B63-F1189AC6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6CD31-80C2-4934-899A-5D8C06C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82042-58F9-4B9A-8078-B1D0B84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2462-4737-4FD1-81CC-34AC0FF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2F3F6-D5D9-41F9-AC02-2CC8777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74C80-7B79-4E4D-82E1-B53BE87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1801F-7E2E-41C7-A14A-B3E1E50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3DFF-79FB-4514-A51F-E956C8E8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F82-7AC1-402F-B089-762A29D9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AF043-D308-4E31-9E79-A4D7D7E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AFF8-EE49-41E6-992D-C92CC7C0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3DBF6-89B0-4BC3-91A1-A55A0EB4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477BF-22E3-453C-9DC9-7AE4384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DE965-2AB2-4FF6-9869-06AD0D27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9A880-437B-4A2E-ACCD-F9F73E1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C05D0-E600-488C-A1EC-A4DAB9D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BEC9-7871-4A1C-9A9B-68A2EBC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1AB7B-1863-44C8-93D8-E7F1918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C5449-3ADD-41CA-B6A3-8ADEEB4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7FDD-1F3D-40BD-A016-A88265DB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8A1B6-90C6-407D-B371-898C43A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6155F-14C5-4B22-911B-CBE760F6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A2B9-53AF-4FFC-85EC-D0275FF5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292F4-2FEB-4D00-B238-36CE2DF2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A9AA0-7F4C-4AAB-A58E-348ED104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6028-57FB-434B-9E99-BE9FBC9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58A42-E056-4BAC-87D7-4C61FFA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58DB9-B9E8-4489-80BC-DE11187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B3554-1589-4833-9DB0-15F29ED8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0F766-9931-4096-B2AB-45002481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5E8E-84C9-4960-9FFD-6193FCA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FDB07-5CC8-4598-A1F6-A3ACC94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58D24-C682-4814-A01C-C6688861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0797B-A40E-4412-9DB6-0BFE033D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68AC-BF28-4C78-8EE2-BDF03AB8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FECDB-66E6-47A3-9366-929BFCB1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8E7F-40FB-4D60-876A-28A094CF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5FF-5317-45A1-9EA9-9DA9D727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29F2-F848-458F-88CB-E445CCC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EF1-866A-4CD6-844F-72B4C42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8D9-20FA-4F64-B9EB-0057FA0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ADF-166A-41B6-A86C-C64CD18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87C-B12E-4606-939D-814D028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965C-6176-4183-AD98-C93853D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40E-F2F7-41A1-BEEE-9BA1C143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C9F5-5D81-401C-B6D7-4CC82D9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B2A-A35D-48EC-B1E5-3DD73B02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5329-01F2-457B-ACC7-2F792019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FD0C-A413-45E7-AF9A-380DB65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A6DB-51E5-4C2D-8408-53DE66A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EB90-8575-418D-B759-FC3B51E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5AA9-F42C-4463-94E2-BC7A79F2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248-1DAD-4526-B982-D03A2060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7AA3-EFCF-4DA6-8C96-6526154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BC95-1481-49B7-89DC-B9BC65F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62B2-0A7F-4B68-82DA-C28F2D0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210A4-C0F6-46B7-B9C0-1922001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74B0-390A-49EB-8995-95D89792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2855-24EA-4AFA-9AF3-62DD1F04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A551-3242-48E8-BC2E-B9083C92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0703-6361-4E1F-87DC-55BD1FB4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EEFB-8691-4D7B-B922-68830FD4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C583-E9DF-40F9-8EC2-426A078D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BB9-5C93-4F13-A2F8-731CBE2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3476-5BAC-4A64-8481-5A30DFF5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7AAC-DD34-40B1-9B2A-D5BCDB6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1FAB4-BC85-47DE-85A5-937DAD3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AEFB-656B-4F78-81CA-A0C49A8B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19A6-FF0A-43CE-A5CD-CF773A7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8116-BFBC-4AC1-9D73-1753238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0FAA-65FE-4EFE-9CEE-A71757B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0463-72B9-43CE-84DE-73AC56F3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64F8-8E37-4E66-B394-770538ED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525C-B4C3-4012-A1F1-ED4E679D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9C2-FD96-4D70-9330-F5E135C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DBFC-142A-47AC-BD0C-1363F784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0117-2972-4CF6-AE33-6D3791B9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9113-7E6B-42B0-9C3C-D841281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24C6-D015-464F-BB6B-8C27228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A070-11FC-4B31-93D6-2DC0AAEF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1BD7-FF8C-4148-AD86-274379C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A014-65B1-47DE-9CD9-72DA568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7641-7CA1-44BB-911C-DD3EDD0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D6F1-4A27-4B03-9CD5-0622DC81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33BF-25A0-4B14-A3DC-0D4BB1CA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BD7-6F27-483E-9959-4B80D83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B14BF-4A51-490C-8CBE-F4411C0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228E-3AF4-4711-B434-CA1C5D11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9B67-4D24-4AF8-9708-D47298C4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7672-C2CD-49FB-B508-9D36F69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C820A-1C28-4E63-8947-B2780BA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122F7-CBE7-4634-8E02-E5EA1BF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CB767-B420-46F5-B64F-8CC93A4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44A2-2608-4675-A0A1-2F62AE62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37FE-C2A4-4B13-8E07-562AE27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122F-7DED-48CD-A4CE-85A13F6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981-41E7-443A-B095-E105A71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7C5C-B670-4182-8EE7-AA3BD67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3E90-F742-4C7D-AB1D-B4EA437A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2431-5CF6-4437-85FE-8C543B26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5812-8C0D-4295-BBEA-64885199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5C09-0D5F-41A0-AD42-D636488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EB16-311E-4715-921B-5157BED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B155-7422-47EE-B053-AB83938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CDC19-3A6D-4834-85D6-B84C8215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A2622-F7E5-4AE3-BF4D-15F7E479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F434-50B0-4D77-A9B6-ADBF835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182-9326-4F96-8B6A-942A82C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E279-C183-4252-898A-793387A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E6A9-DE88-4681-A1D9-9630184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89E7-A7BF-4F5C-901E-1E3B454D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F99D-95A5-4A45-9AAB-EFAE52E8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D61A-995E-45FF-A779-215E9667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CAC6-B98D-4103-BA24-6A8966CC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88B1-3B76-4E65-AFFD-3EEB7931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88E61-5D64-4C53-B783-F44EFBE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B4BC-CCC0-473E-B88D-69FF7017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B9872-E851-4392-95AC-0C35C2D5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AF2-74EB-4A18-8973-28E8281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1FBB-B215-4780-B52E-4D3D0377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99FD-7223-4185-A86D-F58A8560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732B-A769-409C-88A3-E9885AA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7B456-075A-4021-8786-EBD46B7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3D5D-9E1E-449E-909F-CA90B82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70FC-5DDB-4A4E-A726-85EE5112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930C9-6E64-4C7B-A3C5-C613715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6247C-CED5-479E-9537-A35D121D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57FD-601D-4CBF-B3DA-07249FE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C2A84-59E7-4E30-8A3F-1A9F82CF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7657-4948-4AA2-BC65-5677F5AF17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442F-EC88-49D2-9EC0-321DE44BE2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9FD-2949-41A7-A1E1-413A299494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6772-45ED-42EE-9387-64836B5E8F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8BC8-90BE-4BAA-A2D4-00C9D77D74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640-0663-4EF5-8984-2568F0E01F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D9B-8AD6-4F17-8F7F-41F059A0D8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3645-C5D6-4E1B-947F-15C9409FCA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0F1-0A0E-476C-856E-5DB73A66AC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44A-3B03-4B57-A33C-C573C4F005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88B-8DE7-4412-9596-E032C07888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82C-9872-4855-96F8-69354F5984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7 Náš Boh je moc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stva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j chvále pripoj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ávme Pán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pája v jed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atský kru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jedna viera jeden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Boh je moc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stva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ej celým sve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chvá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mu patrí všetka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života dar, spásy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šade chválospe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 hriešnik získ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ier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človekom sa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ráva Božích detí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otvorí náš zrak i slu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Božie slovo Svätý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Duchom svoj ľu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uduje si v 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3:49Z</dcterms:modified>
  <cp:revision>30</cp:revision>
  <dc:subject/>
  <dc:title>Je veľký náš Pán, on slávy je Kráľ Nech do všetkých strán  spev vrúcnych znie chvál.</dc:title>
</cp:coreProperties>
</file>